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5637-0B3F-4C12-8842-B3F4EFCE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9231-8C79-4DFE-B7C1-D886BDAE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9663-CB41-4BDD-92B0-2E2F9D40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CB83-91C5-48BF-8666-57CE1028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BA41-4408-488B-B33B-2E1DE777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6D8F-097E-4FD1-933E-88577A1D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C2A-2B46-4494-9744-2EF2E30F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5DF9-C5D0-43E0-8685-470D3464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889-8B31-4B6A-873C-88EBAB69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542A-F254-4B80-8EB7-93ABF0B2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253-CF4C-4762-8897-F133BA11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A6A-9212-45C5-8456-FBC89B69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F641-3832-43C2-9A34-BB9C4446C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25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systems of inequa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solution of a system of inequa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graph a system of system of inequa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each ine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line to indicate which side ought to be sha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tion that is shaded for both is th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124080" y="4191120"/>
          <a:ext cx="2200320" cy="22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191120"/>
                    <a:ext cx="220032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-x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x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438280" y="1523880"/>
          <a:ext cx="301788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523880"/>
                    <a:ext cx="30178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715000" y="3276720"/>
          <a:ext cx="3165480" cy="32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3276720"/>
                    <a:ext cx="316548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2y &lt;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y &lt;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&g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-1/2x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-x 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183200" y="1905120"/>
          <a:ext cx="393516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83200" y="1905120"/>
                    <a:ext cx="39351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ing anoth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29577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8T21:00:00Z</dcterms:created>
  <dc:creator>nuhs</dc:creator>
  <dc:description/>
  <dc:language>en-US</dc:language>
  <cp:lastModifiedBy>nuhs</cp:lastModifiedBy>
  <dcterms:modified xsi:type="dcterms:W3CDTF">2007-10-25T19:21:40Z</dcterms:modified>
  <cp:revision>7</cp:revision>
  <dc:subject/>
  <dc:title>Algebra 2A</dc:title>
</cp:coreProperties>
</file>